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C4C-D59A-4FB5-AE24-897FA1C6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C6A-764D-46B1-9A3B-CF03CE6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28-ED9B-440A-A3CF-965F480D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301-5363-4C9F-A6AE-8B44662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E4A-F870-4381-A96F-423B96B2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1B2-675D-4734-A242-E82983E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C79-89BA-428C-B1F5-A66A02F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BF2-EBF0-4B0C-8922-E959931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77D-6A2A-4B15-9F82-881AED1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476-B718-499A-8B15-F915DAC5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F5F-B2DC-4DB7-AAAE-84AF4912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935-5274-44E4-9D32-B0F63EB1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720-E477-40B5-927E-C993FB91DA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FAWR6hzZek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gmP4nk0EO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twoislandlight.blogspot.com/" TargetMode="External"/><Relationship Id="rId2" Type="http://schemas.openxmlformats.org/officeDocument/2006/relationships/hyperlink" Target="http://twoislandlight.blogspot.com/" TargetMode="External"/><Relationship Id="rId3" Type="http://schemas.openxmlformats.org/officeDocument/2006/relationships/hyperlink" Target="http://placefrancais.wikispaces.com/" TargetMode="External"/><Relationship Id="rId4" Type="http://schemas.openxmlformats.org/officeDocument/2006/relationships/hyperlink" Target="http://placefrancais.wikispaces.com/" TargetMode="External"/><Relationship Id="rId5" Type="http://schemas.openxmlformats.org/officeDocument/2006/relationships/hyperlink" Target="http://placefrancais.wikispaces.com/" TargetMode="External"/><Relationship Id="rId6" Type="http://schemas.openxmlformats.org/officeDocument/2006/relationships/hyperlink" Target="https://cambodia-project.wikispaces.com/" TargetMode="External"/><Relationship Id="rId7" Type="http://schemas.openxmlformats.org/officeDocument/2006/relationships/hyperlink" Target="https://cambodia-project.wikispaces.com/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2361960" y="1600200"/>
            <a:ext cx="533160" cy="6858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23880" y="1600200"/>
            <a:ext cx="1371600" cy="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600200"/>
            <a:ext cx="4876920" cy="457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5486400" cy="30481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1600200"/>
            <a:ext cx="4267440" cy="1600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66520" y="1600200"/>
            <a:ext cx="228600" cy="3808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600200"/>
            <a:ext cx="2057400" cy="763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600200"/>
            <a:ext cx="228600" cy="32004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1600200"/>
            <a:ext cx="4114800" cy="10666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9480" y="1600200"/>
            <a:ext cx="2286000" cy="10666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600200"/>
            <a:ext cx="1600200" cy="1600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95480" y="1523880"/>
            <a:ext cx="1676520" cy="763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95480" y="1294920"/>
            <a:ext cx="2895840" cy="3049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aking it Global 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 Connections Between Communiti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600200"/>
            <a:ext cx="2590920" cy="5335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895480" y="1599840"/>
            <a:ext cx="4724640" cy="6094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5640" y="990360"/>
            <a:ext cx="609480" cy="6094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 M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65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666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4648320" cy="3103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SOKHOUEN.jpg"/>
          <p:cNvPicPr/>
          <p:nvPr/>
        </p:nvPicPr>
        <p:blipFill>
          <a:blip r:embed="rId2"/>
          <a:stretch/>
        </p:blipFill>
        <p:spPr>
          <a:xfrm>
            <a:off x="6477120" y="2514600"/>
            <a:ext cx="2143080" cy="2757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58000" y="5105520"/>
            <a:ext cx="1981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okhouen</a:t>
            </a:r>
            <a:br>
              <a:rPr sz="28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(Cambodi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t do global collaborative projects offer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600200"/>
            <a:ext cx="6629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ple literacies; digital, cultural,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oss - cultural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nthesis &amp;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on literacy, research, validation and authentication of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otiation and collabo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209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647960" cy="3103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SOKHOUEN.jpg"/>
          <p:cNvPicPr/>
          <p:nvPr/>
        </p:nvPicPr>
        <p:blipFill>
          <a:blip r:embed="rId2"/>
          <a:stretch/>
        </p:blipFill>
        <p:spPr>
          <a:xfrm>
            <a:off x="6477120" y="2666880"/>
            <a:ext cx="2143080" cy="275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0" y="5105520"/>
            <a:ext cx="1981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okhou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18148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be human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ause these guys will control conversations if our young people don’t…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2865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53080" y="3124080"/>
            <a:ext cx="204804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SOKHOUEN.jpg"/>
          <p:cNvPicPr/>
          <p:nvPr/>
        </p:nvPicPr>
        <p:blipFill>
          <a:blip r:embed="rId3"/>
          <a:stretch/>
        </p:blipFill>
        <p:spPr>
          <a:xfrm>
            <a:off x="3809880" y="4419720"/>
            <a:ext cx="154008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562720" y="4723920"/>
            <a:ext cx="685800" cy="2286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2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How are on-line collaborative projects easier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 as an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read / write we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- web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nering opportun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2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eryone can be a content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ift in information produc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ve we seen other shifts of this magnitud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6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19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vailable Web 2.0 Tool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1295280"/>
            <a:ext cx="624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gl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d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casts, skype, 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73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king The Shif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371600"/>
            <a:ext cx="6172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 know society is changing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s…? (not so fast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llenge - to develop students with 21st century literacy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, assess, 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, synthe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,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s,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" y="62485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447920"/>
            <a:ext cx="61722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e / provincial / nation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es with juris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 outcomes across subject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curricular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tting here from ther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3876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30800" y="55627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iterac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447920"/>
            <a:ext cx="61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 R’s…become the 4 E’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ng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ing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ideas compell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33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edit: David War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STE Standard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447920"/>
            <a:ext cx="61722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 NETS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&amp; collab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/ information retr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inking,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gital citizenship (eth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bstac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057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ology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ology know-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shi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mmitted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3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t Do These Projects Look Like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class /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local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/ 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ject Exampl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8288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Flu Shot / Two Island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la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ranc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Connect with Cambo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&amp; Charline Math F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ject Exampl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1 Flat World 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o find a partner or project?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61722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lationships ----&gt;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gers - “word of mout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y Davis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latclassroom project /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riz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 Burrell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01 flat world 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o find a partner or project?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743200" cy="144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29200" y="1241280"/>
            <a:ext cx="2971800" cy="1121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524240" cy="120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2219040" cy="49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429000" y="4724280"/>
            <a:ext cx="2689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67816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on Pe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Canada College, Mont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y Burr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rea International School, Seo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cky Dav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wood School, Camilla, 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vid Warli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dmark Project, Raleigh, 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15320" y="220968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nts &amp;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2438280"/>
            <a:ext cx="405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y Global Collaborative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440" y="60948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llaborate /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523880"/>
            <a:ext cx="606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into small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en minutes…brainstorm how you coul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framework for a global project to connect and preserve native culture and / or language and develop greater understanding of aboriginal issues / challenges / 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way that a business or government could utilize technology to connect with other businesses or government to create strong partnerships or work collaboratively.  How can they support each others goals and objectives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2438280"/>
            <a:ext cx="40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ow to beg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2438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tools can I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2438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vercoming Obs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24382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can these projects look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24382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 can we get conn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50292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Global Collaborative Projects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5:37:53Z</dcterms:created>
  <dc:creator>nbdoe</dc:creator>
  <dc:description/>
  <dc:language>en-US</dc:language>
  <cp:lastModifiedBy>Gary Gallant</cp:lastModifiedBy>
  <dcterms:modified xsi:type="dcterms:W3CDTF">2008-04-09T19:39:43Z</dcterms:modified>
  <cp:revision>18</cp:revision>
  <dc:subject/>
  <dc:title>Taking it Global  </dc:title>
</cp:coreProperties>
</file>